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662-C9D5-48E9-8F3C-29016726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664-8C21-4970-8395-F2285696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728-46CC-4D2D-B56D-F1E14AA8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911-185D-4859-9872-DD3D56B1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33F-9D90-4902-9093-F1E33C3A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08A-0E45-4471-9AD0-EB1776D0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E71-220B-4270-936C-C40818A9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C081-057C-4698-A8A5-B0E1909A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5F1-1370-4051-93B7-B8416ACD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B70-8DFE-4D2F-A9D0-73F7FD49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3E0-AE6B-4419-BA15-DCDEDA75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AC9D-5F73-4A34-BA39-726D62E4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05CB-4C63-46B2-B022-7A889B36D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3 Nature of 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219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properties of a solid reflect the orderly arrangement of their particles and the fixed locations of their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905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tightly p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362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dense, not easily com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2666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vibrating particles around fixed points do not allow soli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33526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ing solids give the particles more KE, which in turn, causes the structure of the solid to break down, and eventually me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495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elting Point (mp) – point at which a solid begins to turn into a 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melting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447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 increased vibrations are big enough that they overcome the strong attraction which holds them in a fixed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1240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3124080"/>
            <a:ext cx="1828800" cy="2286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312408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352680"/>
            <a:ext cx="1905120" cy="228600"/>
          </a:xfrm>
          <a:prstGeom prst="leftArrow">
            <a:avLst>
              <a:gd name="adj1" fmla="val 50000"/>
              <a:gd name="adj2" fmla="val 20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1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t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4572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solids are crystals (orderly, repeating 3-D pattern called a crystal latt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shape of the crystal reflects the arrangement of the particles within the so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onding type between particles is what determines the melting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438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c bonding = high mp because strong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895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ar bonding = low mp because weak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3526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t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508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3809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ave sides (fa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1911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s of where the faces intersect  are always the same for a specific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7 classifications (differ because of angles and number of edges of equal length on each 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295280"/>
            <a:ext cx="7467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ic – ga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tragonal – zir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rhombic – top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clinic – gyp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linic – amaz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gonal – tourma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ombohedral - 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Cell = smallest group of particles with a crystal that retains the geometric shape of the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1523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14 ki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2133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tropes – 2 or more different molecular forms of the same element in the same physic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8954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me solid substances exist in more than on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3429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= exists as diamonds, graphite, bucky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41148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lotropes have different properties because their structures are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4952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nly some elements have allotropes (phosphorus, sulfur, oxygen, boron, and anti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rphous solids = lacks orderly inside structure; non cryslal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1447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andom arrangement of the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18288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ber, plastics, asphalt, 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04:08:21Z</dcterms:created>
  <dc:creator>jpak</dc:creator>
  <dc:description/>
  <dc:language>en-US</dc:language>
  <cp:lastModifiedBy>Farwell Area Schools</cp:lastModifiedBy>
  <dcterms:modified xsi:type="dcterms:W3CDTF">2008-01-21T18:38:19Z</dcterms:modified>
  <cp:revision>8</cp:revision>
  <dc:subject/>
  <dc:title>8-3 Nature of Solids</dc:title>
</cp:coreProperties>
</file>